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6D0F-1EBE-499B-83EA-6AE57586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82C3-FEEE-4C44-9733-962C446A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A8F-108E-455B-AC7C-8C5901CA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6F94-D605-49D8-AB76-01E55E8A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D1A7-CFA8-4535-A9E4-5A8E0145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B5D9-DA45-4464-8352-E140E728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7D26-CBF8-4070-A6A2-B5662DDA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FCA5-47C2-4A30-9BDF-C1370DEE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B3F2-92C8-4460-98D8-8A8D828A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88DC-3085-4535-8711-1337E390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C150-4BAF-4DEE-AEE7-CBCA3E0D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DF58-50B0-4C6D-870C-CC800E71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3207-D8FC-4274-AD30-1EF5FF22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6932-27AC-4511-AB84-B2DC5575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BC7E-1FA5-4EB7-83E3-0A68E38C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706C-7D12-405E-B7BE-FC77C248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57F0-869C-4BDE-8ACC-5F1678DA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DD69-CD04-4038-B1B6-45893B12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07B7-B6AD-4A69-B137-BBF0FCD0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445D-6200-4A32-90B8-EF260902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F9C-2456-45BD-BCF7-2A746FFF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3533-7C47-4FC6-90C2-903212BB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019-4687-4F34-AA24-8E24554B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1F0-EF8A-4C0B-97B5-E202B3D1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 algn="r" rtl="1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r" rtl="1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OM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OM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3C7C-DEBD-4CB2-A2B4-CD7BDB79D319}" type="slidenum">
              <a:rPr b="0" lang="ar-OM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 algn="r" rtl="1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r" rtl="1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OM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OM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D722-E42F-4462-B046-D18EADBCD128}" type="slidenum">
              <a:rPr b="0" lang="ar-OM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1" descr=""/>
          <p:cNvPicPr/>
          <p:nvPr/>
        </p:nvPicPr>
        <p:blipFill>
          <a:blip r:embed="rId1"/>
          <a:stretch/>
        </p:blipFill>
        <p:spPr>
          <a:xfrm>
            <a:off x="420840" y="1579680"/>
            <a:ext cx="848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1071720" y="428760"/>
            <a:ext cx="73580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في المرة السابقة إستخدمنا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ut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 وهي الامر الذي نستخدمه للطباعة على الشاشة ..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وهذا الأمر إستخدمناه لطباعة إسمنا على الشاشة 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اليوم بنتعلم الأمر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i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 الذي يستخدم للإدخال بعكس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ut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 الذي هو للإخراج ( الطباعة) .. بإمكانكم معرفتها من الإسم (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,out</a:t>
            </a: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) بس ضيفوا عليها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 وانتهت السالفة 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ut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 دائما يتبعها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&lt;&lt; </a:t>
            </a: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 ... و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i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 يتبعها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&gt;&gt;</a:t>
            </a: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 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وإذا عكسنا ما بينهما سيظهر لنا خطأ 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اليوم بإذن الله سنكتب برنامجا ً يقوم بعملية حسابية  الا وهي الضرب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ultiplication</a:t>
            </a: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1000080" y="285840"/>
            <a:ext cx="7572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شرح طريقة عمل البرنامج ::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سنعرّف المتغيرات ... ما هي المتغيرات ؟؟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عندما ننشئ برنامج نحتاج لمكان نحط  فيه البيانات الي بنستعملها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 فـ نستعمل المتغيرات للتنشئ لنا مساحة لنخزن فيها البيانات 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عندنا في السي ++ عدة انواع من انواع البيانات (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ata Type</a:t>
            </a: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   وكل منها له استخدامه فمنها 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اعرض لكم هذا الجدول ... أعذروني لم اترجمه 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28760" y="1785960"/>
            <a:ext cx="447480" cy="409680"/>
          </a:xfrm>
          <a:prstGeom prst="rect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Text Box 4" descr=""/>
          <p:cNvPicPr/>
          <p:nvPr/>
        </p:nvPicPr>
        <p:blipFill>
          <a:blip r:embed="rId1"/>
          <a:stretch/>
        </p:blipFill>
        <p:spPr>
          <a:xfrm>
            <a:off x="244440" y="2249640"/>
            <a:ext cx="87156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42920" y="142920"/>
          <a:ext cx="8858160" cy="6392880"/>
        </p:xfrm>
        <a:graphic>
          <a:graphicData uri="http://schemas.openxmlformats.org/drawingml/2006/table">
            <a:tbl>
              <a:tblPr/>
              <a:tblGrid>
                <a:gridCol w="2214360"/>
                <a:gridCol w="2214720"/>
                <a:gridCol w="2214720"/>
                <a:gridCol w="2214360"/>
              </a:tblGrid>
              <a:tr h="434880"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1f4f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iz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 (in bits, on x86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1f4f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1f4f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No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1f4f"/>
                    </a:solidFill>
                  </a:tcPr>
                </a:tc>
              </a:tr>
              <a:tr h="546120"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bo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8 (top 7 bits are ignore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0 o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C++ on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6120"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ch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OM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-128 to 127(signed) or 0-255(unsigne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tandard issue "byte"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4760"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OM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-32768 to 32767(signed) or 0-65536(unsigne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just like a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cha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, only twice as lar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7000"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OM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-2147483648 to 2147483647(signed) or 0-4294967296(unsigne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tandard-issue integer number ty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320"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lo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32 (can be 64 on other architectur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ame as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dit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8680"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long lo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64 (this is a non-standard GNU extensio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-9223372036854775808 to 9223372036854775807(signed) or 0-18446744073709551616(unsigne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For very huge integ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85840" y="642960"/>
          <a:ext cx="8643960" cy="5857920"/>
        </p:xfrm>
        <a:graphic>
          <a:graphicData uri="http://schemas.openxmlformats.org/drawingml/2006/table">
            <a:tbl>
              <a:tblPr/>
              <a:tblGrid>
                <a:gridCol w="2160360"/>
                <a:gridCol w="2162160"/>
                <a:gridCol w="2160720"/>
                <a:gridCol w="2160720"/>
              </a:tblGrid>
              <a:tr h="94608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1f4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iz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 (in bits, on x8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1f4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Ran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1f4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No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1f4f"/>
                    </a:solidFill>
                  </a:tcPr>
                </a:tc>
              </a:tr>
              <a:tr h="13604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flo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OM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+/- 1.4023x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Book Antiqua"/>
                        </a:rPr>
                        <a:t>-45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 to 3.4028x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Book Antiqua"/>
                        </a:rPr>
                        <a:t>+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general purpose real-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04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OM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+/- 4.9406x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Book Antiqua"/>
                        </a:rPr>
                        <a:t>-32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 to 1.7977x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Book Antiqua"/>
                        </a:rPr>
                        <a:t>3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igher-precision real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096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long do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96 (this is a non-standard GNU extentio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OM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??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For numbers with very large ranges and high preci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357120" y="285840"/>
            <a:ext cx="8643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ما هي المتغيرات التي سنستخدمها في برنامجنا ؟؟؟ 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عندما نريد ان نضرب رقمين 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نحتاج إلى مكان للرقم الأول و مكان للرقم الثاني ... ومكان للنتيجة 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الرقم الاول بيكون من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والرقم الثاني بيكون من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</a:t>
            </a: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 ايضا ،،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النتيجة ستكون من نوع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 كذلك ،،،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800" spc="-1" strike="noStrike">
                <a:solidFill>
                  <a:srgbClr val="ffffff"/>
                </a:solidFill>
                <a:latin typeface="Book Antiqua"/>
              </a:rPr>
              <a:t>كيف نكتبها ؟؟؟؟؟ّ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5357880" y="4357800"/>
            <a:ext cx="328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e6bc9"/>
                </a:solidFill>
                <a:latin typeface="Book Antiqua"/>
              </a:rPr>
              <a:t>int 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Number1;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e6bc9"/>
                </a:solidFill>
                <a:latin typeface="Book Antiqua"/>
              </a:rPr>
              <a:t>int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 Number2;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e6bc9"/>
                </a:solidFill>
                <a:latin typeface="Book Antiqua"/>
              </a:rPr>
              <a:t>int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 Result;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14200" y="4157640"/>
            <a:ext cx="392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400" spc="-1" strike="noStrike">
                <a:solidFill>
                  <a:srgbClr val="ffffff"/>
                </a:solidFill>
                <a:latin typeface="Book Antiqua"/>
              </a:rPr>
              <a:t>نلاحظ ان 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ar-OM" sz="2400" spc="-1" strike="noStrike">
                <a:solidFill>
                  <a:srgbClr val="ffffff"/>
                </a:solidFill>
                <a:latin typeface="Book Antiqua"/>
              </a:rPr>
              <a:t> سوف تتحول للون الازرق ..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400" spc="-1" strike="noStrike">
                <a:solidFill>
                  <a:srgbClr val="ffffff"/>
                </a:solidFill>
                <a:latin typeface="Book Antiqua"/>
              </a:rPr>
              <a:t>الاسم الذي بعد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t</a:t>
            </a:r>
            <a:r>
              <a:rPr b="0" lang="ar-OM" sz="2400" spc="-1" strike="noStrike">
                <a:solidFill>
                  <a:srgbClr val="ffffff"/>
                </a:solidFill>
                <a:latin typeface="Book Antiqua"/>
              </a:rPr>
              <a:t> نختاره على كيفنا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500040" y="5662440"/>
            <a:ext cx="447840" cy="409680"/>
          </a:xfrm>
          <a:prstGeom prst="rect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Text Box 4" descr=""/>
          <p:cNvPicPr/>
          <p:nvPr/>
        </p:nvPicPr>
        <p:blipFill>
          <a:blip r:embed="rId1"/>
          <a:stretch/>
        </p:blipFill>
        <p:spPr>
          <a:xfrm>
            <a:off x="171360" y="6108840"/>
            <a:ext cx="1090800" cy="352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"/>
          <p:cNvSpPr/>
          <p:nvPr/>
        </p:nvSpPr>
        <p:spPr>
          <a:xfrm>
            <a:off x="1676520" y="5643720"/>
            <a:ext cx="447480" cy="409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Text Box 4" descr=""/>
          <p:cNvPicPr/>
          <p:nvPr/>
        </p:nvPicPr>
        <p:blipFill>
          <a:blip r:embed="rId2"/>
          <a:stretch/>
        </p:blipFill>
        <p:spPr>
          <a:xfrm>
            <a:off x="1347840" y="6089760"/>
            <a:ext cx="1090440" cy="353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2819520" y="5643720"/>
            <a:ext cx="447480" cy="409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Text Box 4" descr=""/>
          <p:cNvPicPr/>
          <p:nvPr/>
        </p:nvPicPr>
        <p:blipFill>
          <a:blip r:embed="rId3"/>
          <a:stretch/>
        </p:blipFill>
        <p:spPr>
          <a:xfrm>
            <a:off x="2670120" y="6089760"/>
            <a:ext cx="81612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"/>
          <p:cNvSpPr/>
          <p:nvPr/>
        </p:nvSpPr>
        <p:spPr>
          <a:xfrm>
            <a:off x="928800" y="142920"/>
            <a:ext cx="785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2800" spc="-1" strike="noStrike">
                <a:solidFill>
                  <a:srgbClr val="e0e7f5"/>
                </a:solidFill>
                <a:latin typeface="Book Antiqua"/>
              </a:rPr>
              <a:t>1</a:t>
            </a:r>
            <a:r>
              <a:rPr b="1" lang="ar-OM" sz="2800" spc="-1" strike="noStrike">
                <a:solidFill>
                  <a:srgbClr val="e0e7f5"/>
                </a:solidFill>
                <a:latin typeface="Book Antiqua"/>
              </a:rPr>
              <a:t>- في البداية يجب انا نسأل المستخدم عن الرقمين اللذان يريد ان يحصل على حاصل ضربهما ونخزنهما في الذاكرة عن طريق إستخدام </a:t>
            </a:r>
            <a:r>
              <a:rPr b="1" lang="en-US" sz="2800" spc="-1" strike="noStrike">
                <a:solidFill>
                  <a:srgbClr val="e0e7f5"/>
                </a:solidFill>
                <a:latin typeface="Book Antiqua"/>
              </a:rPr>
              <a:t>cin</a:t>
            </a:r>
            <a:r>
              <a:rPr b="1" lang="en-US" sz="2800" spc="-1" strike="noStrike">
                <a:solidFill>
                  <a:srgbClr val="e0e7f5"/>
                </a:solidFill>
                <a:latin typeface="Book Antiqua"/>
              </a:rPr>
              <a:t> </a:t>
            </a:r>
            <a:r>
              <a:rPr b="1" lang="ar-OM" sz="2800" spc="-1" strike="noStrike">
                <a:solidFill>
                  <a:srgbClr val="e0e7f5"/>
                </a:solidFill>
                <a:latin typeface="Book Antiqu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357120" y="1000080"/>
            <a:ext cx="7858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7f5"/>
                </a:solidFill>
                <a:latin typeface="Book Antiqua"/>
              </a:rPr>
              <a:t>cout&lt;&lt;“Please Enter First Number : ”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7f5"/>
                </a:solidFill>
                <a:latin typeface="Book Antiqua"/>
              </a:rPr>
              <a:t>cin&gt;&gt;Number1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7f5"/>
                </a:solidFill>
                <a:latin typeface="Book Antiqua"/>
              </a:rPr>
              <a:t>cout&lt;&lt;endl;   </a:t>
            </a:r>
            <a:r>
              <a:rPr b="1" lang="ar-OM" sz="2800" spc="-1" strike="noStrike">
                <a:solidFill>
                  <a:srgbClr val="e0e7f5"/>
                </a:solidFill>
                <a:latin typeface="Book Antiqua"/>
              </a:rPr>
              <a:t>نعمل إنت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7f5"/>
                </a:solidFill>
                <a:latin typeface="Book Antiqua"/>
              </a:rPr>
              <a:t>cout&lt;&lt;“Please Enter Second Number : ”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7f5"/>
                </a:solidFill>
                <a:latin typeface="Book Antiqua"/>
              </a:rPr>
              <a:t>cin&gt;&gt;Number2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7f5"/>
                </a:solidFill>
                <a:latin typeface="Book Antiqua"/>
              </a:rPr>
              <a:t>cout&lt;&lt;endl;   </a:t>
            </a:r>
            <a:r>
              <a:rPr b="1" lang="ar-OM" sz="2800" spc="-1" strike="noStrike">
                <a:solidFill>
                  <a:srgbClr val="e0e7f5"/>
                </a:solidFill>
                <a:latin typeface="Book Antiqua"/>
              </a:rPr>
              <a:t>نعمل إنت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1000080" y="3470400"/>
            <a:ext cx="785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2800" spc="-1" strike="noStrike">
                <a:solidFill>
                  <a:srgbClr val="e0e7f5"/>
                </a:solidFill>
                <a:latin typeface="Book Antiqua"/>
              </a:rPr>
              <a:t>2</a:t>
            </a:r>
            <a:r>
              <a:rPr b="1" lang="ar-OM" sz="2800" spc="-1" strike="noStrike">
                <a:solidFill>
                  <a:srgbClr val="e0e7f5"/>
                </a:solidFill>
                <a:latin typeface="Book Antiqua"/>
              </a:rPr>
              <a:t>- نجري العملية الحسابية 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2800" spc="-1" strike="noStrike">
                <a:solidFill>
                  <a:srgbClr val="e0e7f5"/>
                </a:solidFill>
                <a:latin typeface="Book Antiqua"/>
              </a:rPr>
              <a:t>* للضرب     </a:t>
            </a:r>
            <a:r>
              <a:rPr b="1" lang="en-US" sz="2800" spc="-1" strike="noStrike">
                <a:solidFill>
                  <a:srgbClr val="e0e7f5"/>
                </a:solidFill>
                <a:latin typeface="Book Antiqua"/>
              </a:rPr>
              <a:t>/</a:t>
            </a:r>
            <a:r>
              <a:rPr b="1" lang="ar-OM" sz="2800" spc="-1" strike="noStrike">
                <a:solidFill>
                  <a:srgbClr val="e0e7f5"/>
                </a:solidFill>
                <a:latin typeface="Book Antiqua"/>
              </a:rPr>
              <a:t> للقسمة    + للجمع       -  للطرح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7f5"/>
                </a:solidFill>
                <a:latin typeface="Book Antiqua"/>
              </a:rPr>
              <a:t>Result=Number1*Number2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285840" y="5261040"/>
            <a:ext cx="872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2800" spc="-1" strike="noStrike">
                <a:solidFill>
                  <a:srgbClr val="e0e7f5"/>
                </a:solidFill>
                <a:latin typeface="Book Antiqua"/>
              </a:rPr>
              <a:t>3</a:t>
            </a:r>
            <a:r>
              <a:rPr b="1" lang="ar-OM" sz="2800" spc="-1" strike="noStrike">
                <a:solidFill>
                  <a:srgbClr val="e0e7f5"/>
                </a:solidFill>
                <a:latin typeface="Book Antiqua"/>
              </a:rPr>
              <a:t>- نخرج النتيجة 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7f5"/>
                </a:solidFill>
                <a:latin typeface="Book Antiqua"/>
              </a:rPr>
              <a:t>cout&lt;&lt;“The Result of Multiplication is : “&lt;&lt;Result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7f5"/>
                </a:solidFill>
                <a:latin typeface="Book Antiqua"/>
              </a:rPr>
              <a:t>cout&lt;&lt;endl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1.jpg"/>
          <p:cNvPicPr/>
          <p:nvPr/>
        </p:nvPicPr>
        <p:blipFill>
          <a:blip r:embed="rId1"/>
          <a:stretch/>
        </p:blipFill>
        <p:spPr>
          <a:xfrm>
            <a:off x="357120" y="428760"/>
            <a:ext cx="842976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2.jpg"/>
          <p:cNvPicPr/>
          <p:nvPr/>
        </p:nvPicPr>
        <p:blipFill>
          <a:blip r:embed="rId1"/>
          <a:stretch/>
        </p:blipFill>
        <p:spPr>
          <a:xfrm>
            <a:off x="928800" y="2286000"/>
            <a:ext cx="74293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8T17:19:42Z</dcterms:created>
  <dc:creator>Hamed</dc:creator>
  <dc:description/>
  <dc:language>en-US</dc:language>
  <cp:lastModifiedBy>Hamed</cp:lastModifiedBy>
  <dcterms:modified xsi:type="dcterms:W3CDTF">2010-08-08T20:29:08Z</dcterms:modified>
  <cp:revision>18</cp:revision>
  <dc:subject/>
  <dc:title>Slide 1</dc:title>
</cp:coreProperties>
</file>